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06DE-63CA-4EFB-BFD3-D532F883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A763-6850-4648-91E6-A99FA6559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CC7C-4AA4-4436-BF7B-4393E9AE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F985-17CA-4647-94BA-CBFE174E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E579-7654-40C6-AD06-52E493DFA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EF1-4BAD-4EF3-943E-763C7C0E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9914-2760-49EE-B1DE-9A397937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69E89-1E3E-40D3-A4DB-E457E8DE1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A99D-F22C-4DD4-8EE4-42CFCE1E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3981-4472-4D21-943F-AC2D327F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F723-44DA-43D4-9EC0-2DFA1C65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628-8A40-4800-B366-5F8686C5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65D8-D846-4D07-AA20-4AC6C7C6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6D3B-9E70-426E-AD62-ABECD097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84A77-7C6B-4E55-A7A9-F75D79F7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A1EC-1E04-473C-8ABE-DAA1FC1CD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7FA1-C5B5-470D-AD90-67A5EA9E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B6A-79D3-4EE4-B760-050700D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A68-714B-4900-B560-15894C83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FC2B-7E2E-4F2C-904C-F9FA3ED5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C512-BA2C-4B4C-BDB3-90EFFA610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33A-C375-4FDA-99F3-32B3D017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4D5C-D6C8-431D-95CB-8DDF489B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AE7D-FC80-40C9-B17C-A332A11C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D7325-5DED-40EB-A0B7-0D50557D9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32D5-0A52-4925-AE70-DDB80A0B7B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devito.com/images/young/Huckleberry-Finn.jpg&amp;imgrefurl=http://www.jdevito.com/young.htm&amp;h=786&amp;w=640&amp;sz=147&amp;tbnid=QZSI69N4wBbZEM:&amp;tbnh=143&amp;tbnw=116&amp;prev=/images%3Fq%3Dhuckleberry%2Bfinn%2Bimage%26um%3D1&amp;start=1&amp;ei=Xvb_RsaZEabCeZqGlc0C&amp;sig2=ogIdv2tnr5ghThfqdeCWHg&amp;sa=X&amp;oi=images&amp;ct=image&amp;cd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ancaster.com/ejw/Huck_Finn.jpg&amp;imgrefurl=http://www.dancaster.com/ejw/ejw_huck_trivia.htm&amp;h=475&amp;w=334&amp;sz=17&amp;tbnid=roNVUxADhrhuaM:&amp;tbnh=129&amp;tbnw=91&amp;prev=/images%3Fq%3Dhuckleberry%2Bfinn%2Bimage%26um%3D1&amp;start=3&amp;ei=Xvb_RsaZEabCeZqGlc0C&amp;sig2=Q_vJo58K5mitYqxlZ0vc-w&amp;sa=X&amp;oi=images&amp;ct=image&amp;cd=3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How does conflict produce change?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conflict produce change in Huckleberry Fin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3581280"/>
            <a:ext cx="4038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3200400"/>
            <a:ext cx="1904760" cy="58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0" y="3200400"/>
            <a:ext cx="1828800" cy="5814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y Do We Read/Write Stories, Poems, Books, Plays…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5975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student 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’s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2209320"/>
            <a:ext cx="403848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er’s Reas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y do you think Mark Twain 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s still read today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possible student 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http://fourstarters.com/category/university/"/>
          <p:cNvPicPr/>
          <p:nvPr/>
        </p:nvPicPr>
        <p:blipFill>
          <a:blip r:embed="rId1"/>
          <a:stretch/>
        </p:blipFill>
        <p:spPr>
          <a:xfrm>
            <a:off x="6400800" y="1295280"/>
            <a:ext cx="14684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experience do you have with Huck Finn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r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m Sawy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w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ie based on Huckleberry F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916520" y="1905120"/>
          <a:ext cx="392580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905120"/>
                    <a:ext cx="39258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hat Do You Think You Know about </a:t>
            </a: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Huckleberry Finn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[examples of student responses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0" y="2286000"/>
            <a:ext cx="3929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http://www.jdevito.com/youn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1295280"/>
            <a:ext cx="2102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ere did you hear it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905120"/>
          <a:ext cx="8007480" cy="4186080"/>
        </p:xfrm>
        <a:graphic>
          <a:graphicData uri="http://schemas.openxmlformats.org/drawingml/2006/table">
            <a:tbl>
              <a:tblPr/>
              <a:tblGrid>
                <a:gridCol w="2669040"/>
                <a:gridCol w="2669040"/>
                <a:gridCol w="26694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Personal knowled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Media—TV, books, movi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00"/>
                          </a:solidFill>
                          <a:latin typeface="Arial"/>
                        </a:rPr>
                        <a:t>Other peop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66"/>
                    </a:solidFill>
                  </a:tcPr>
                </a:tc>
              </a:tr>
              <a:tr h="83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Do You Want to Know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426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[examples/partial list of possibl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sponses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676520" y="18284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http://www.dancaster.com/ejw/ejw_huck_trivia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1066680"/>
            <a:ext cx="1667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5T00:32:57Z</dcterms:created>
  <dc:creator>Judi Yost</dc:creator>
  <dc:description/>
  <dc:language>en-US</dc:language>
  <cp:lastModifiedBy>Sullivan County BOCES</cp:lastModifiedBy>
  <dcterms:modified xsi:type="dcterms:W3CDTF">2010-07-02T00:21:43Z</dcterms:modified>
  <cp:revision>20</cp:revision>
  <dc:subject/>
  <dc:title>What can Romeo and Juliet Teach Us About Ourselves?</dc:title>
</cp:coreProperties>
</file>